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3B30-FFFD-4B96-AF8B-2CFDA8442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E781-A9F0-4DF6-AE4E-46C77A90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B5C6-F926-47CD-BBCC-02E5CA669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F243-4617-4A77-89BA-A25E7D859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8546-5ADC-4426-88CB-873074B0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210F-B04C-4E57-9665-0C7D0460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15FB-FEDE-4A19-969F-B5FDC8D3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C476-5B5C-49B9-86A0-F7128969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AAF6-6102-4FE8-A5EE-423C9E47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9A9E-9471-41F8-87B2-96B0B779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FC1B-8E44-4EB5-8C05-C8B6D72D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95B1-CB40-4A96-A131-754DDDAD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2b71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784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5296-2C0F-4F30-A0D5-8FB98FBDB8D4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4760" y="1363680"/>
            <a:ext cx="8364600" cy="49244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66ccff"/>
            </a:solidFill>
            <a:miter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1560" y="1620720"/>
            <a:ext cx="4654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Verdana"/>
              </a:rPr>
              <a:t>M.S Data Provider applicatio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9800" y="1089000"/>
            <a:ext cx="826956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9933"/>
                </a:solidFill>
                <a:latin typeface="Verdana"/>
              </a:rPr>
              <a:t>&gt;M.S D.Pr. applic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24720" y="5300640"/>
            <a:ext cx="7192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Log-ou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56000" y="2421000"/>
            <a:ext cx="5832360" cy="395280"/>
          </a:xfrm>
          <a:prstGeom prst="flowChartAlternateProcess">
            <a:avLst/>
          </a:prstGeom>
          <a:solidFill>
            <a:srgbClr val="ff9933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56000" y="4041720"/>
            <a:ext cx="5832360" cy="395280"/>
          </a:xfrm>
          <a:prstGeom prst="flowChartAlternateProcess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56000" y="2995560"/>
            <a:ext cx="5832360" cy="395280"/>
          </a:xfrm>
          <a:prstGeom prst="flowChartAlternateProcess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84520" y="4083120"/>
            <a:ext cx="36370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hip departur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84520" y="2498760"/>
            <a:ext cx="41050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pected ship call (pre-arriva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84520" y="3075120"/>
            <a:ext cx="306072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hip arriv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56000" y="3517920"/>
            <a:ext cx="5832360" cy="395280"/>
          </a:xfrm>
          <a:prstGeom prst="flowChartAlternateProcess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84520" y="3578400"/>
            <a:ext cx="375912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AZMAT notification prior to departur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651640" y="1498680"/>
            <a:ext cx="2687400" cy="246240"/>
            <a:chOff x="5651640" y="1498680"/>
            <a:chExt cx="2687400" cy="246240"/>
          </a:xfrm>
        </p:grpSpPr>
        <p:sp>
          <p:nvSpPr>
            <p:cNvPr id="54" name=""/>
            <p:cNvSpPr/>
            <p:nvPr/>
          </p:nvSpPr>
          <p:spPr>
            <a:xfrm>
              <a:off x="5651640" y="1498680"/>
              <a:ext cx="18730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rt of Call (LOCODE)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29600" y="1530360"/>
              <a:ext cx="100944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364520" y="1511280"/>
              <a:ext cx="83016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GBSOU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01560" y="2421000"/>
            <a:ext cx="1738440" cy="2160360"/>
            <a:chOff x="601560" y="2421000"/>
            <a:chExt cx="1738440" cy="2160360"/>
          </a:xfrm>
        </p:grpSpPr>
        <p:sp>
          <p:nvSpPr>
            <p:cNvPr id="58" name=""/>
            <p:cNvSpPr/>
            <p:nvPr/>
          </p:nvSpPr>
          <p:spPr>
            <a:xfrm>
              <a:off x="601560" y="2421000"/>
              <a:ext cx="1738440" cy="2160360"/>
            </a:xfrm>
            <a:prstGeom prst="flowChartAlternateProcess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1560" y="2971800"/>
              <a:ext cx="1738440" cy="824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ff"/>
                  </a:solidFill>
                  <a:latin typeface="Verdana"/>
                </a:rPr>
                <a:t>Send/ update notifications module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74760" y="1363680"/>
            <a:ext cx="8364600" cy="49244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66ccff"/>
            </a:solidFill>
            <a:miter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1560" y="1620720"/>
            <a:ext cx="3017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Verdana"/>
              </a:rPr>
              <a:t>Select Vess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9800" y="1089000"/>
            <a:ext cx="826956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Verdana"/>
              </a:rPr>
              <a:t>&gt;M.S D.Pr. application&gt;Notify/update expected ship call&gt;</a:t>
            </a:r>
            <a:r>
              <a:rPr b="1" lang="en-GB" sz="1200" spc="-1" strike="noStrike">
                <a:solidFill>
                  <a:srgbClr val="ff9933"/>
                </a:solidFill>
                <a:latin typeface="Verdana"/>
              </a:rPr>
              <a:t>Step 1: Select vesse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78040" y="2044800"/>
            <a:ext cx="1106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MO Number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22680" y="2027160"/>
            <a:ext cx="1106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MSI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44720" y="2060640"/>
            <a:ext cx="1057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3280" y="2038320"/>
            <a:ext cx="1057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78040" y="2308320"/>
            <a:ext cx="1106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all Sign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11640" y="2289240"/>
            <a:ext cx="1106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hip Name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44720" y="2324160"/>
            <a:ext cx="1057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83280" y="2301840"/>
            <a:ext cx="1057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8000" y="2610000"/>
            <a:ext cx="7066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earch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95760" y="261000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se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601560" y="3429000"/>
            <a:ext cx="7966080" cy="1608480"/>
            <a:chOff x="601560" y="3429000"/>
            <a:chExt cx="7966080" cy="1608480"/>
          </a:xfrm>
        </p:grpSpPr>
        <p:sp>
          <p:nvSpPr>
            <p:cNvPr id="74" name=""/>
            <p:cNvSpPr/>
            <p:nvPr/>
          </p:nvSpPr>
          <p:spPr>
            <a:xfrm>
              <a:off x="601560" y="3429000"/>
              <a:ext cx="160200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                  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Ship   Name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03560" y="3429000"/>
              <a:ext cx="82224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IMO Number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17880" y="3429000"/>
              <a:ext cx="95400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  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MMSI  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997440" y="3429000"/>
              <a:ext cx="79200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Ship   Call Sig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89440" y="3429000"/>
              <a:ext cx="92700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Last Call ATD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716440" y="3429000"/>
              <a:ext cx="90828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urrent Call ETA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624720" y="3429000"/>
              <a:ext cx="97164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urrent Call ATA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596360" y="3429000"/>
              <a:ext cx="95868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urrent Call ATD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01560" y="3825720"/>
              <a:ext cx="160200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ICARO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203560" y="3825720"/>
              <a:ext cx="82224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9038842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17880" y="3825720"/>
              <a:ext cx="97956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35226900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997440" y="3825720"/>
              <a:ext cx="792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3FGV3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89440" y="3825720"/>
              <a:ext cx="927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4/3/2007 16:0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16440" y="3825720"/>
              <a:ext cx="87948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624720" y="3825720"/>
              <a:ext cx="97164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         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596360" y="3825720"/>
              <a:ext cx="97128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         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1560" y="4232160"/>
              <a:ext cx="1602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ICARUS PALACE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03560" y="4232160"/>
              <a:ext cx="82224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9144811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17880" y="4232160"/>
              <a:ext cx="97956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23951900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997440" y="4232160"/>
              <a:ext cx="792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SWEW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89440" y="4232160"/>
              <a:ext cx="927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6/2/2006 15:3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716440" y="4232160"/>
              <a:ext cx="87948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9/7/2009 21:3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24720" y="4232160"/>
              <a:ext cx="97164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96360" y="4232160"/>
              <a:ext cx="971280" cy="7038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          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1560" y="4638600"/>
              <a:ext cx="1602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ICARUS  III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90600" y="4638600"/>
              <a:ext cx="82260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9145413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05280" y="4638600"/>
              <a:ext cx="97920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21233500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84480" y="4638600"/>
              <a:ext cx="79236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3WM9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76840" y="4638600"/>
              <a:ext cx="927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2/7/2008 18:25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03840" y="4638600"/>
              <a:ext cx="87948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/6/2009 07:2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11760" y="4638600"/>
              <a:ext cx="97164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/6/2009 08:05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583400" y="4638600"/>
              <a:ext cx="97164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         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601560" y="5734080"/>
            <a:ext cx="826956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Verdana"/>
              </a:rPr>
              <a:t>3 vessels found, displaying 3 item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11720" y="2308320"/>
            <a:ext cx="50472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ICA*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651640" y="1498680"/>
            <a:ext cx="2687400" cy="246240"/>
            <a:chOff x="5651640" y="1498680"/>
            <a:chExt cx="2687400" cy="246240"/>
          </a:xfrm>
        </p:grpSpPr>
        <p:sp>
          <p:nvSpPr>
            <p:cNvPr id="109" name=""/>
            <p:cNvSpPr/>
            <p:nvPr/>
          </p:nvSpPr>
          <p:spPr>
            <a:xfrm>
              <a:off x="5651640" y="1498680"/>
              <a:ext cx="18730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rt of Call (LOCODE)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29600" y="1530360"/>
              <a:ext cx="100944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64520" y="1511280"/>
              <a:ext cx="83016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GBSOU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908000" y="2610000"/>
            <a:ext cx="706680" cy="246240"/>
          </a:xfrm>
          <a:prstGeom prst="rect">
            <a:avLst/>
          </a:prstGeom>
          <a:solidFill>
            <a:srgbClr val="ff9933"/>
          </a:solidFill>
          <a:ln w="0">
            <a:noFill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earch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74760" y="1333440"/>
            <a:ext cx="8364600" cy="54500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66ccff"/>
            </a:solidFill>
            <a:miter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1560" y="1620720"/>
            <a:ext cx="56390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Verdana"/>
              </a:rPr>
              <a:t>Insert/ Update expected ship call dat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4760" y="1089000"/>
            <a:ext cx="82692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b2b2b2"/>
                </a:solidFill>
                <a:latin typeface="Verdana"/>
              </a:rPr>
              <a:t>&gt;M.S D.Pr. application&gt;Notify/update expected ship call&gt;</a:t>
            </a:r>
            <a:r>
              <a:rPr b="1" lang="en-GB" sz="1000" spc="-1" strike="noStrike">
                <a:solidFill>
                  <a:srgbClr val="ff9933"/>
                </a:solidFill>
                <a:latin typeface="Verdana"/>
              </a:rPr>
              <a:t>Step 2: Insert/ Update expected ship call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35400" y="2212920"/>
            <a:ext cx="1106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allRef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83280" y="2211480"/>
            <a:ext cx="2844720" cy="20952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4760" y="2600280"/>
            <a:ext cx="1511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Last Port (LOCODE)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86040" y="2631960"/>
            <a:ext cx="814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86040" y="2612880"/>
            <a:ext cx="6699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SGSIN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4760" y="2844720"/>
            <a:ext cx="1106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D last Port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86040" y="2860560"/>
            <a:ext cx="130788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86040" y="2828880"/>
            <a:ext cx="130788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9/6/2009 16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93920" y="2600280"/>
            <a:ext cx="5382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A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93920" y="2876400"/>
            <a:ext cx="674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D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49800" y="2631960"/>
            <a:ext cx="158292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ext Port (LOCODE)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49800" y="2847960"/>
            <a:ext cx="17524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A at Next Port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71640" y="2619360"/>
            <a:ext cx="4017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71640" y="2616120"/>
            <a:ext cx="3351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35280" y="2631960"/>
            <a:ext cx="130824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35280" y="2876400"/>
            <a:ext cx="130824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35280" y="2625840"/>
            <a:ext cx="1308240" cy="23112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4/7/2009 15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35280" y="2870280"/>
            <a:ext cx="1308240" cy="23112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9/7/2009 17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90600" y="3121200"/>
            <a:ext cx="1511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xpected Position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35280" y="3121200"/>
            <a:ext cx="43927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6240" y="2651040"/>
            <a:ext cx="4017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32720" y="2638440"/>
            <a:ext cx="814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32720" y="2647800"/>
            <a:ext cx="6699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DEH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6240" y="2637000"/>
            <a:ext cx="3351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19760" y="2876400"/>
            <a:ext cx="130824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19760" y="2876400"/>
            <a:ext cx="145260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20/7/2009 11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35280" y="3102120"/>
            <a:ext cx="439272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&lt;15 char subsidiary LOCODE or free text entry&gt;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83280" y="2187720"/>
            <a:ext cx="284472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&lt;to be inserted by the application&gt;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707240" y="618012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tur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6240" y="5875200"/>
            <a:ext cx="7066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ubmi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560" y="5827680"/>
            <a:ext cx="4000680" cy="827280"/>
          </a:xfrm>
          <a:prstGeom prst="flowChartAlternateProcess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560" y="5884920"/>
            <a:ext cx="36338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4 hours before arrival information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(All ships)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6129360"/>
            <a:ext cx="158904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*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rsons on board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63760" y="6119640"/>
            <a:ext cx="67320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73400" y="637380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se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02040" y="637380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av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72080" y="5827680"/>
            <a:ext cx="2730600" cy="827280"/>
          </a:xfrm>
          <a:prstGeom prst="flowChartAlternateProcess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72080" y="5875200"/>
            <a:ext cx="2819160" cy="39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Hazmat Information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(All ships arriving from a non EU port carrying dangerous goods)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43520" y="6373800"/>
            <a:ext cx="233352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nter/ update Hazmat info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651640" y="1498680"/>
            <a:ext cx="2687400" cy="246240"/>
            <a:chOff x="5651640" y="1498680"/>
            <a:chExt cx="2687400" cy="246240"/>
          </a:xfrm>
        </p:grpSpPr>
        <p:sp>
          <p:nvSpPr>
            <p:cNvPr id="156" name=""/>
            <p:cNvSpPr/>
            <p:nvPr/>
          </p:nvSpPr>
          <p:spPr>
            <a:xfrm>
              <a:off x="5651640" y="1498680"/>
              <a:ext cx="18730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rt of Call (LOCODE)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29600" y="1530360"/>
              <a:ext cx="100944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364520" y="1511280"/>
              <a:ext cx="83016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GBSOU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049400" y="2212920"/>
            <a:ext cx="3186000" cy="246240"/>
            <a:chOff x="1049400" y="2212920"/>
            <a:chExt cx="3186000" cy="246240"/>
          </a:xfrm>
        </p:grpSpPr>
        <p:sp>
          <p:nvSpPr>
            <p:cNvPr id="160" name=""/>
            <p:cNvSpPr/>
            <p:nvPr/>
          </p:nvSpPr>
          <p:spPr>
            <a:xfrm>
              <a:off x="1049400" y="2212920"/>
              <a:ext cx="11062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Vessel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16080" y="2228760"/>
              <a:ext cx="211932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116080" y="2212920"/>
              <a:ext cx="202428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ICARO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06520" y="3365640"/>
            <a:ext cx="7866000" cy="2368440"/>
            <a:chOff x="506520" y="3365640"/>
            <a:chExt cx="7866000" cy="2368440"/>
          </a:xfrm>
        </p:grpSpPr>
        <p:sp>
          <p:nvSpPr>
            <p:cNvPr id="164" name=""/>
            <p:cNvSpPr/>
            <p:nvPr/>
          </p:nvSpPr>
          <p:spPr>
            <a:xfrm>
              <a:off x="511200" y="3365640"/>
              <a:ext cx="7861320" cy="236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96880" y="4106880"/>
              <a:ext cx="160164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Expected to birth at anchorage?  (Y/N)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22440" y="3670200"/>
              <a:ext cx="158904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                  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Ship configuration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995560" y="3670200"/>
              <a:ext cx="1374840" cy="5508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Verdana"/>
                </a:rPr>
                <a:t>(For tankers)</a:t>
              </a: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 Nature and volume of cargo:  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90600" y="4106880"/>
              <a:ext cx="673200" cy="55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N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190600" y="3670200"/>
              <a:ext cx="67320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DHT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02240" y="3670200"/>
              <a:ext cx="3417840" cy="47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&lt;free text entry&gt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36960" y="4314960"/>
              <a:ext cx="1374840" cy="4777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Verdana"/>
                </a:rPr>
                <a:t>(All ships)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Planned works : 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08360" y="4272120"/>
              <a:ext cx="3419640" cy="47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&lt;free text entry&gt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363760" y="4846680"/>
              <a:ext cx="2158920" cy="24624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Verdana"/>
                </a:rPr>
                <a:t>(All ships) </a:t>
              </a: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Planned operations: 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600440" y="4846680"/>
              <a:ext cx="341964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&lt;free text entry&gt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6520" y="3416400"/>
              <a:ext cx="658152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(3-days before arrival) PSC inspection information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Verdana"/>
                </a:rPr>
                <a:t>(All ships bound for extended inspection)</a:t>
              </a: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47040" y="3416400"/>
              <a:ext cx="517320" cy="24624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Save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964200" y="3416400"/>
              <a:ext cx="623880" cy="24624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Reset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4880" y="5187960"/>
              <a:ext cx="215892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Verdana"/>
                </a:rPr>
                <a:t>(All ships) </a:t>
              </a: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onditions of cargo and ballast tanks: 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962440" y="5329080"/>
              <a:ext cx="505764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&lt;Free text entry&gt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488360" y="6496200"/>
            <a:ext cx="850680" cy="20052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Print/ export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6880" y="6469200"/>
            <a:ext cx="28018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cc3300"/>
                </a:solidFill>
                <a:latin typeface="Verdana"/>
              </a:rPr>
              <a:t>* Mandatory field(s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15080" y="6348240"/>
            <a:ext cx="2385720" cy="285840"/>
          </a:xfrm>
          <a:prstGeom prst="rect">
            <a:avLst/>
          </a:prstGeom>
          <a:noFill/>
          <a:ln w="22320">
            <a:solidFill>
              <a:srgbClr val="00ff00"/>
            </a:solidFill>
            <a:prstDash val="sysDot"/>
            <a:miter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2395800">
            <a:off x="6816240" y="5555880"/>
            <a:ext cx="67464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3300"/>
                </a:solidFill>
                <a:latin typeface="Wingdings"/>
                <a:ea typeface="Wingdings"/>
              </a:rPr>
              <a:t>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05520" y="1803240"/>
            <a:ext cx="233352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ancel Expected Ship Call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1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remove" presetClass="path" presetID="0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5.18519E-006 L -0.01962 0.03149 E">
                                      <p:cBhvr>
                                        <p:cTn id="39" dur="1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74760" y="1363680"/>
            <a:ext cx="8364600" cy="54500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66ccff"/>
            </a:solidFill>
            <a:miter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1560" y="1620720"/>
            <a:ext cx="7426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Verdana"/>
              </a:rPr>
              <a:t>Insert/ Update Hazmat information </a:t>
            </a:r>
            <a:r>
              <a:rPr b="1" lang="en-US" sz="1200" spc="-1" strike="noStrike">
                <a:solidFill>
                  <a:srgbClr val="0099ff"/>
                </a:solidFill>
                <a:latin typeface="Verdana"/>
              </a:rPr>
              <a:t>(arrivals from non EU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7440" y="1089000"/>
            <a:ext cx="876924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b2b2b2"/>
                </a:solidFill>
                <a:latin typeface="Verdana"/>
              </a:rPr>
              <a:t>&gt;M.S D.Pr. application&gt;Notify/update expected ship call&gt;Step 2: Insert/ Update expected ship call</a:t>
            </a:r>
            <a:r>
              <a:rPr b="1" lang="en-GB" sz="900" spc="-1" strike="noStrike">
                <a:solidFill>
                  <a:srgbClr val="ff9933"/>
                </a:solidFill>
                <a:latin typeface="Verdana"/>
              </a:rPr>
              <a:t>&gt;Insert/update HAZMAT 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35400" y="2044800"/>
            <a:ext cx="1106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allRef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83280" y="2038320"/>
            <a:ext cx="2844720" cy="20952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74760" y="2600280"/>
            <a:ext cx="2325600" cy="246240"/>
            <a:chOff x="374760" y="2600280"/>
            <a:chExt cx="2325600" cy="246240"/>
          </a:xfrm>
        </p:grpSpPr>
        <p:sp>
          <p:nvSpPr>
            <p:cNvPr id="191" name=""/>
            <p:cNvSpPr/>
            <p:nvPr/>
          </p:nvSpPr>
          <p:spPr>
            <a:xfrm>
              <a:off x="374760" y="2600280"/>
              <a:ext cx="15112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Last Port (LOCODE)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86040" y="2631960"/>
              <a:ext cx="81432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86040" y="2612880"/>
              <a:ext cx="66996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SGSIN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74760" y="2844720"/>
            <a:ext cx="1106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D last Port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86040" y="2860560"/>
            <a:ext cx="130788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86040" y="2828880"/>
            <a:ext cx="1307880" cy="2311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9/6/2009 16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93920" y="2600280"/>
            <a:ext cx="5382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A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93920" y="2876400"/>
            <a:ext cx="674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D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49800" y="2631960"/>
            <a:ext cx="158292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ext Port (LOCODE)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49800" y="2847960"/>
            <a:ext cx="17524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A at Next Port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71640" y="2619360"/>
            <a:ext cx="4017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71640" y="2616120"/>
            <a:ext cx="3351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35280" y="2631960"/>
            <a:ext cx="130824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635280" y="2876400"/>
            <a:ext cx="130824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35280" y="2603520"/>
            <a:ext cx="1308240" cy="2311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4/7/2009 15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35280" y="2857680"/>
            <a:ext cx="1308240" cy="2311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9/7/2009 17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190600" y="3121200"/>
            <a:ext cx="1511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xpected Position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635280" y="3121200"/>
            <a:ext cx="43927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26240" y="2651040"/>
            <a:ext cx="4017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32720" y="2638440"/>
            <a:ext cx="814320" cy="20952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696000" y="2647800"/>
            <a:ext cx="70668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DEH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6240" y="2637000"/>
            <a:ext cx="3351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719760" y="2876400"/>
            <a:ext cx="145260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19760" y="2857680"/>
            <a:ext cx="1452600" cy="2311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20/7/2009 11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35280" y="3102120"/>
            <a:ext cx="4537080" cy="2311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&lt;15 char subsidiary LOCODE or free text entry&gt;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83280" y="2019240"/>
            <a:ext cx="284472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&lt;to be inserted by the application&gt;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1200" y="3365640"/>
            <a:ext cx="7661160" cy="236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88960" y="4422600"/>
            <a:ext cx="1601640" cy="70308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lassification of dangerous goods per IMO (multiple entry possible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3868560"/>
            <a:ext cx="1589040" cy="39852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Hazmat in board?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74840" y="4362480"/>
            <a:ext cx="19605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MDG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74840" y="3859200"/>
            <a:ext cx="673200" cy="24624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6320" y="3416400"/>
            <a:ext cx="65818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Hazmat information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(All ships arriving from a Non EU port )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15160" y="612936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tur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88200" y="3416400"/>
            <a:ext cx="5176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av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32720" y="5827680"/>
            <a:ext cx="70632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ubmi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1560" y="5827680"/>
            <a:ext cx="4000680" cy="827280"/>
          </a:xfrm>
          <a:prstGeom prst="flowChartAlternateProcess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1560" y="5884920"/>
            <a:ext cx="36338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4 hours before arrival information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(All ships)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6129360"/>
            <a:ext cx="158904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rsons on board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363760" y="6119640"/>
            <a:ext cx="673200" cy="24624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73400" y="637380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se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64160" y="341640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se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02040" y="637380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av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74840" y="4616280"/>
            <a:ext cx="19605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other&gt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74840" y="4870440"/>
            <a:ext cx="19605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other&gt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74840" y="5124600"/>
            <a:ext cx="19605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other&gt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74840" y="5373720"/>
            <a:ext cx="19605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other&gt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356000" y="3716280"/>
            <a:ext cx="3605400" cy="1946160"/>
          </a:xfrm>
          <a:prstGeom prst="flowChartAlternateProcess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65800" y="5124600"/>
            <a:ext cx="3419280" cy="452160"/>
          </a:xfrm>
          <a:prstGeom prst="flowChartAlternateProcess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41760" y="5180040"/>
            <a:ext cx="3419640" cy="39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Step (2):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Provide URL  of cargo manifest or the contact details of the Cargo Manifest provider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21160" y="3800520"/>
            <a:ext cx="3463920" cy="1212840"/>
          </a:xfrm>
          <a:prstGeom prst="flowChartAlternateProcess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25920" y="4044960"/>
            <a:ext cx="3264120" cy="50472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25920" y="4000680"/>
            <a:ext cx="318780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1a. Provide URL of the HAZMAT declaration document  </a:t>
            </a:r>
            <a:r>
              <a:rPr b="0" lang="en-US" sz="1000" spc="-1" strike="noStrike" u="sng">
                <a:solidFill>
                  <a:srgbClr val="ffffff"/>
                </a:solidFill>
                <a:uFillTx/>
                <a:latin typeface="Verdana"/>
              </a:rPr>
              <a:t>or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contact details of the data provider of Hazmat declaration details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41760" y="4616280"/>
            <a:ext cx="3264120" cy="24480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41760" y="4616280"/>
            <a:ext cx="31878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1b. Provide Hazmat declaration detail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5651640" y="1498680"/>
            <a:ext cx="2687400" cy="246240"/>
            <a:chOff x="5651640" y="1498680"/>
            <a:chExt cx="2687400" cy="246240"/>
          </a:xfrm>
        </p:grpSpPr>
        <p:sp>
          <p:nvSpPr>
            <p:cNvPr id="246" name=""/>
            <p:cNvSpPr/>
            <p:nvPr/>
          </p:nvSpPr>
          <p:spPr>
            <a:xfrm>
              <a:off x="5651640" y="1498680"/>
              <a:ext cx="18730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rt of Call (LOCODE)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29600" y="1530360"/>
              <a:ext cx="100944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64520" y="1511280"/>
              <a:ext cx="83016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GBSOU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4535640" y="3800520"/>
            <a:ext cx="363672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Step (1): 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[Choice (</a:t>
            </a:r>
            <a:r>
              <a:rPr b="0" i="1" lang="en-US" sz="1000" spc="-1" strike="noStrike">
                <a:solidFill>
                  <a:srgbClr val="ffffff"/>
                </a:solidFill>
                <a:latin typeface="Verdana"/>
              </a:rPr>
              <a:t>(1a) or (1b)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)]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049400" y="2044800"/>
            <a:ext cx="3186000" cy="246240"/>
            <a:chOff x="1049400" y="2044800"/>
            <a:chExt cx="3186000" cy="246240"/>
          </a:xfrm>
        </p:grpSpPr>
        <p:sp>
          <p:nvSpPr>
            <p:cNvPr id="251" name=""/>
            <p:cNvSpPr/>
            <p:nvPr/>
          </p:nvSpPr>
          <p:spPr>
            <a:xfrm>
              <a:off x="1049400" y="2044800"/>
              <a:ext cx="11062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Vessel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16080" y="2060640"/>
              <a:ext cx="211932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116080" y="2044800"/>
              <a:ext cx="202428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ICARO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5651640" y="2355840"/>
            <a:ext cx="237636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pdate  Pre-arrival informatio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488360" y="6440400"/>
            <a:ext cx="850680" cy="2156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Print/ export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74840" y="4362480"/>
            <a:ext cx="1960560" cy="1299960"/>
          </a:xfrm>
          <a:prstGeom prst="rect">
            <a:avLst/>
          </a:prstGeom>
          <a:noFill/>
          <a:ln w="22320">
            <a:solidFill>
              <a:srgbClr val="00ff00"/>
            </a:solidFill>
            <a:prstDash val="sysDot"/>
            <a:miter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13:40:55Z</dcterms:created>
  <dc:creator>Paul Wilkins</dc:creator>
  <dc:description/>
  <dc:language>en-US</dc:language>
  <cp:lastModifiedBy>FIAMMA Lorenzo</cp:lastModifiedBy>
  <cp:lastPrinted>2004-03-26T09:05:49Z</cp:lastPrinted>
  <dcterms:modified xsi:type="dcterms:W3CDTF">2009-04-16T11:41:25Z</dcterms:modified>
  <cp:revision>381</cp:revision>
  <dc:subject/>
  <dc:title>Slide 1</dc:title>
</cp:coreProperties>
</file>